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5045-0EED-4891-9DA0-384D36580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BA38-21AA-4D95-89A4-5F91E756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5C56-C89A-4DBB-92D7-42A5C57D7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1A7-04D5-4187-B777-67EFCACE6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5D8B-65FE-4D1F-8D03-E83D8A8A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CB8-13DC-4DFA-8018-2BBC87BD2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1292-A32B-43F1-87DE-63DD3A2F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958-249B-47AF-ADB8-CAE64EBDF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4E9C-7EEC-4E6C-9744-EB4DF81B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3B09-D12A-466F-981A-80D0F55FD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FC34-BFC3-4C4C-B8FC-7D6A25090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D068-6D77-4264-A4A3-6CE18047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EB64-15CE-460A-A400-4DA6E311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334C-D233-4CAD-9432-5FE49AC2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897-3380-42B3-9937-58A9E761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2C8C-E559-4EE9-8619-12F07B4CD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6166-DEED-41C9-AD38-FFC7357BA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1ABF-951A-4191-98CA-CB8F3B46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BE52-8189-4599-88B2-9D7720EE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851E-012A-4C2C-AA71-79586592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60F1-4532-4EBB-8CDB-BAB831CF6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30E0-4648-4F39-A188-CFC71DCCE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74AC-7029-401B-ADB6-C1500E8DE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223C-C66C-468F-8D38-63A555CFC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8C75-F58F-417F-BEFB-672FA548EC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3BCA-B69B-46BD-A54D-E2A563941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89EA-486C-48EE-997A-6A53A12D4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4FEF-FA56-488B-BCEC-E54942EAF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2826-13E9-493B-BE12-1448A2CCE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6F1A-FEAC-4303-B950-4F34DCD14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18F0-9D41-4CE5-81C6-D636BC8CE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750B-7931-49EB-810A-4BBA139BD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E3AC-D109-44B8-9494-B76B9B9D2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590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re de la présentation   </a:t>
            </a:r>
            <a:fld id="{14104D96-7971-4F90-AE94-B05526AC5F40}" type="datetime">
              <a:rPr b="0" lang="fr-CA" sz="1000" spc="-1" strike="noStrike">
                <a:solidFill>
                  <a:srgbClr val="000000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200B-272D-4505-8958-1A059434E9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ccessavoirs.net/" TargetMode="External"/><Relationship Id="rId3" Type="http://schemas.openxmlformats.org/officeDocument/2006/relationships/hyperlink" Target="http://www.ctreq.qc.ca/" TargetMode="External"/><Relationship Id="rId4" Type="http://schemas.openxmlformats.org/officeDocument/2006/relationships/hyperlink" Target="http://www.rire.ctreq.qc.ca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ccès savoi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775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78a9"/>
                </a:solidFill>
                <a:latin typeface="Arial"/>
              </a:rPr>
              <a:t>Vers une boutique de sciences en é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4360" y="3524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ACFAS – 11 mai 201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2421000"/>
            <a:ext cx="77752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Linda St-Pierre, Présidente-directrice général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Centre de transfert pour la réussite éducative (CTREQ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B559-84F5-478F-A44E-1A831AC976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Types de deman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nthèse des connaissances sur un thème précis (recherche document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herche et analyse critique de doc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alisation d’une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aluation d’un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eption et réalisation d’un plan ou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FBB-E2B6-4527-9C25-6E7839C54D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Exemples de mandats effectués par d’autres boutiques de scienc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03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nthèse de travaux sur l’hyperactivité et la vie de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lan des meilleurs pratiques face au syndrome d’Aspe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eption d’une formation adaptée aux personnes sans ab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eption d’un logiciel simple de contrôle parental d’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BBF4-62FC-42A8-A5C8-A3AC69E167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Exemples de mandats recueillis sur Accès savoi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03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éduc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erventions gagnantes à développer pour des jeunes souffrant d’anxiété (en classe, école et par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is sur le plan d’évaluation, l’outil et le traitement des données – effet du développement des caractéristiques entrepreneuriales chez les élè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5E93-3AFE-43E3-B5EC-1881B97473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Contribution du CTREQ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tablissement d’un lien de conf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compagnement des organisations dans la précision des deman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diation entre l’étudiant et l’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compagnement des étudiants dans le transfert (formation, choix des stratégies et canaux de commun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llaboration à la promotion,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E00-B9DC-4B7C-A048-D6788DC40F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Défi en éducation - Convainc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vaincre les écoles et autres groupes qu’une telle démarche peut réellement aider leur pr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vaincre les chercheurs et les étudi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vaincre l’univers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pertinence d’inclure ces projets dans la formation des étudiant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crédits de c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reconnaître la participation des cherch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8B53-C3C7-4FF1-B0CF-E27CE2DEB0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ctions en cou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« petite » équipe qui se met en place progressi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et relations avec les organisations de la communau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campagne d’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aissance d’Accès savo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ffusion sur Internet et dans le monde scientif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isibilité des travaux sur le site d’Accès savoirs et lien par le 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stence d’un réseau d’app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artenaires – à ven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5601-DEA8-4101-B114-B3E126A851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600" spc="-1" strike="noStrike">
              <a:solidFill>
                <a:srgbClr val="0078a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471D-0924-40FF-AF9A-B3336BD9A1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38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vantages pour les étudi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ment de compé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se à profit de connaiss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e solutions en lien avec des problématiques ré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périmentation, en début de carrière, d’un mécanisme de transfert des connaiss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miliarisation avec la pluridisciplina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ntiment d’ut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AF01-1E59-4AE7-911B-A393F95ECF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vantages pour les organis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les organisations qui font appel au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pacité d’analyse accrue et de réflexion sur la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lité accrue des services off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l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uction d’un réservoir de connaissances pouvant être utiles dans d’autres con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urce de débats de société impor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luence possible sur le débat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4E23-581C-4B8D-9DC2-81F50DE567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vantages pour l’universit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velles pistes de connaissances susceptibles d’intéresser les chercheurs profess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ibution à sa stratégie sociale et communau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éation de nouveaux programmes de recherche et d’enseig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velles publications scientifiques réalisé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 des étudi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- CTREQ –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ABDF-95CD-463A-851E-9A4EA5546B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Qu’est-ce que le CTREQ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CAA0-152F-412C-A8FD-8B2F716E36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Avantages pour les </a:t>
            </a:r>
            <a:br>
              <a:rPr sz="3600"/>
            </a:b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Sciences de l’édu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pprochement avec d’autres discip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lorisation de l’innovation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pprochement entre théorie et pr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A04-04F7-4C96-8059-EA0A31CDF5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Merci 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ccessavoir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treq.qc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ire.ctreq.qc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95E-4C10-4E22-A6D1-2DFD17858C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932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Idée d’une boutique de sci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xte de Florence Piron, chercheuse dans une production de l’IN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Aux sciences citoyen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emblée générale annuelle du CT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0 septembre 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itée : Florence Pi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e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DB7C-98D3-4BCF-9A26-E1569034EC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932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C’est quoi Accès savoirs?</a:t>
            </a:r>
            <a:br>
              <a:rPr sz="3600"/>
            </a:b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Dans l’ensembl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oi: Médiatrice entre la société civile et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université La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ueillir les demandes de la société civ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ibuer à traduire les demandes en question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recherche ou en problématiques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: Réponse aux demandes par des étudiants recrutés dans tous les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aliser les mandats avec 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136E-AB40-4216-9A8E-0B6399E24A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Caractéristiques distin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ponse aux demandes de connaissance ou d’expertise de la société civ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mension participative et collaborative du processus de construction des sa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s offerts gratuitement aux organisations à but non lucr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3"/>
          <p:cNvSpPr/>
          <p:nvPr/>
        </p:nvSpPr>
        <p:spPr>
          <a:xfrm>
            <a:off x="468360" y="623736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0925-C913-44F9-BAE8-BAF4C21738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Étapes franch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303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cations de besoins auprès de certains grou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paration du lancement (site, dépliant, communiqué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ncement d’Accès savoirs le 4 avril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tatives d’arrim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9473-C6A2-47C0-8104-DA88F994E8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Lancement 4 avril 20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7272360" cy="437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D58C-07A3-420C-B383-3A5BCE43FE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282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Site d’Accès savoi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303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-900000" y="0"/>
            <a:ext cx="10872720" cy="744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CE0E-F92A-4D5A-B0E9-B97125B931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663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8a9"/>
                </a:solidFill>
                <a:latin typeface="Arial"/>
              </a:rPr>
              <a:t>Processus en géné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mulation d’une demande par une organisation sur le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se et traitement par les responsables de la boutique des sc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ssociation d’un responsable scientifique (professeur) et d’un étudiant à la 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vail effectué par un étudiant, en collaboration avec l’organisation demandeuse (rencont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usion des résultats (format et langage appropri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3"/>
          <p:cNvSpPr/>
          <p:nvPr/>
        </p:nvSpPr>
        <p:spPr>
          <a:xfrm>
            <a:off x="46836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FAS – Boutique de sciences en réussite éducative - CTREQ - 11 mai 2011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47:19Z</dcterms:created>
  <dc:creator>bci07</dc:creator>
  <dc:description/>
  <dc:language>en-US</dc:language>
  <cp:lastModifiedBy>Mélissa</cp:lastModifiedBy>
  <dcterms:modified xsi:type="dcterms:W3CDTF">2011-05-25T01:35:54Z</dcterms:modified>
  <cp:revision>364</cp:revision>
  <dc:subject/>
  <dc:title>Slide 1</dc:title>
</cp:coreProperties>
</file>